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D4A-3F51-4B41-94FA-010979D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E59-4A46-4562-B46F-CC65278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AA7-E222-406C-B29C-126B54A0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D5F-C7BD-4898-8048-B1F8326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76F-0C6F-48B0-BFEC-640AF4B0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DDDF-75FB-4848-9610-6EFEE7FD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FA2A-9AEC-43B3-969A-0CB23146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218-FB9A-4A70-ADDC-0A57720B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5D5A-B267-42CC-8C1F-8DE71213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BAD6-4D90-45CE-8813-31CE581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0F0-38D9-4FA0-9966-9AA6C85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969-C48D-4398-A65D-2B593B6C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9192-E9FE-4B8A-B7C7-D9CF797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5835-76BB-4B60-9262-88B150B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D9E0-F95A-4C41-9A92-B8E5343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29D7-70D2-4274-B249-9E5F2FC0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8DEB-81BD-47AE-8A21-1D0382A7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823-2ECC-4022-8269-B949D93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9E1-0F27-49C4-B29E-FCA1C649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359-B450-473E-A642-56BAA105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FBF-5E14-47A0-BE9C-6C3154BB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187-6DE3-410B-BBCF-529F906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F37-36AA-45BF-9B28-07107D4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BBD-B563-464F-9DAA-917CF44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9CF-C536-4CB8-92A1-BE2647892D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9F3B-7436-453B-8840-C2050ACB75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az 171" descr=""/>
          <p:cNvPicPr/>
          <p:nvPr/>
        </p:nvPicPr>
        <p:blipFill>
          <a:blip r:embed="rId1"/>
          <a:stretch/>
        </p:blipFill>
        <p:spPr>
          <a:xfrm>
            <a:off x="792000" y="1494000"/>
            <a:ext cx="8010720" cy="1992240"/>
          </a:xfrm>
          <a:prstGeom prst="rect">
            <a:avLst/>
          </a:prstGeom>
          <a:ln w="0">
            <a:noFill/>
          </a:ln>
        </p:spPr>
      </p:pic>
      <p:pic>
        <p:nvPicPr>
          <p:cNvPr id="98" name="Obraz 201" descr=""/>
          <p:cNvPicPr/>
          <p:nvPr/>
        </p:nvPicPr>
        <p:blipFill>
          <a:blip r:embed="rId2"/>
          <a:stretch/>
        </p:blipFill>
        <p:spPr>
          <a:xfrm>
            <a:off x="927000" y="3833640"/>
            <a:ext cx="7831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L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000" y="44197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lokąt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rzchoł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, B, C, D, E, F,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B, BC, CD, DE, EF, FG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ąty wewnętrzn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BC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BCD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DE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DEF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EFG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GA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G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zwa wielokąta zależy od ilości ką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asz wielokąt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edmi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210" descr=""/>
          <p:cNvPicPr/>
          <p:nvPr/>
        </p:nvPicPr>
        <p:blipFill>
          <a:blip r:embed="rId1"/>
          <a:stretch/>
        </p:blipFill>
        <p:spPr>
          <a:xfrm>
            <a:off x="2727360" y="1089000"/>
            <a:ext cx="3554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20720" y="3158640"/>
            <a:ext cx="80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stokąt to czworokąt, który ma wszystkie kąty proste (miara kąta prostego 90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2360" y="363924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ymiary prostokąta to jego długość i szerok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7280" y="4200840"/>
            <a:ext cx="764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sności prostoką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cztery wierzchołk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,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B| = |CD|; |BC|= |AD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oległ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|| CD; BC ||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a sąsiednie boki prostokąta są prostopadł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BC; BC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CD; </a:t>
            </a:r>
            <a:br>
              <a:rPr sz="1800"/>
            </a:b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  C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D; A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połowią się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O|= |OC|; 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400" y="3472200"/>
            <a:ext cx="832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wód prostokąta jest sumą długości jego boków: AB + BC + CD + AD =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le prostokąta jest iloczynem jego sąsiednich boków: AB · BC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 =  a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WADR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0920" y="174276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ysuj kwadrat i oznacz jego wierzchołki oraz zaznacz przekąt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odpowiedz na pyt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Czy kwadrat jest prostoką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le wierzchołków ma kwadrat, wypisz 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Jakie są długości boków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Co możesz powiedzieć o przekątnych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Jak obliczamy obwód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Jak obliczamy pole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179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132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liczba oznaczająca ile razy daną rzecz pomniejszyliśmy lub powiększy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6680" y="1854000"/>
            <a:ext cx="32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zeczywiste wym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większają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67000" y="3098880"/>
          <a:ext cx="654516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3098880"/>
                    <a:ext cx="65451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07000" y="5028840"/>
            <a:ext cx="39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kala obrazy pomniejszać chc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ięc dzielenie wykonać mus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Gdy powiększać obraz przyszło j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ykonać mnożenie musi OJEJ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4:40Z</dcterms:modified>
  <cp:revision>83</cp:revision>
  <dc:subject/>
  <dc:title>Slajd 1</dc:title>
</cp:coreProperties>
</file>